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306D6-D0F8-42B8-BF9B-8C0A84D4E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EB333-C6DE-4039-801F-3C6B320D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A31E8-E093-468A-9959-C98C36CA1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49E9A-1E8F-45EF-BDE0-2F8137366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E013-D668-4445-8F27-3B224E14B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B75F-A9B6-47F1-8148-D8BDC41D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6E47-961A-4C69-AE8B-77C0BB43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586E-1F61-419F-BF3A-E01A629C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CE19-7EF4-4C88-BF1D-03B3C825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A029-909F-419E-B372-1C4BE365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AD1E-A517-404A-90B3-C4BBB7F8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F6A94-2D5E-4B5B-A5CE-15BC2515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EDEC-6585-4592-9859-A6056FFC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37BE-F286-4419-A409-C647DC34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0FE6-6ABF-4BD1-B1D7-7E6BD089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E5A7-9161-4E3D-8A7A-65058348E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F83F-C022-48EB-BDF4-EE5D0E7AC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B477F-807A-44C1-9709-17A71A55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7BD46-C6D9-4C08-B68D-377C1C9F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2CE54-09F6-41BA-88EE-7090FC8E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91DD2-FE2F-4ACD-8304-EA2319E7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F09AD-D157-4326-8FBE-227D79CC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2FED7-2CE9-47C7-98B9-62F78798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57C06-5703-4045-8268-193DF8F0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0367-3E5D-44E4-BE44-91355F2B7AA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3735-4A30-456C-B7B4-9E9BE867C9D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5e"/>
            </a:gs>
            <a:gs pos="100000">
              <a:srgbClr val="ff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Glaring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tion :To look at angrily and suspicio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e Word: gl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lection : 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llable : glar-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onyms: norm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nonym: suspicio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235560" y="4200480"/>
            <a:ext cx="1160640" cy="1484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608800" y="1371600"/>
            <a:ext cx="246852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toryteller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finition: a person who reads and te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e Word : sto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lection: 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nonym: rea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llable: stor.y.tel.l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onym: wri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759280" y="4221000"/>
            <a:ext cx="1816200" cy="1629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764320" y="1909800"/>
            <a:ext cx="180648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f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Borrow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tion: To use something with permi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e Word: R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lection: r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nonym: to 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llable: bor.r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onym: ste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53000" y="2187720"/>
            <a:ext cx="403380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Eager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tion: Exited and nervo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Base Wor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Inflection: 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Synonym: really happ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Syllables: ea.g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Antonym: s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265800" y="3362400"/>
            <a:ext cx="19702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                    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hattere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ition: to talk rapidly and Foolish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se Word: Ch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4</cp:lastModifiedBy>
  <dcterms:modified xsi:type="dcterms:W3CDTF">2008-10-17T21:48:59Z</dcterms:modified>
  <cp:revision>4</cp:revision>
  <dc:subject/>
  <dc:title>PowerPoint Presentation</dc:title>
</cp:coreProperties>
</file>